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51FE1-DAFC-49FC-8523-9CF15AE8C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474B-A9B6-4DFE-B5CD-2B7C69F63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4191-FAF9-4C37-875A-F316E2BFC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ould be a DURING  LECTURE and POST LECTURE phase to your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 would like to see a note taking system in your portfol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sas.calpoly.edu/asc/ssl/notetaking.syste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3900-4D09-4361-AC7E-5BF99E033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082E8-D937-4816-BE5C-BEB3401D3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EC8B-9A17-4C81-8A3A-0B8DE1566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 handout ex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259D-CE3D-41F7-A187-B1BE7B75AA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170AE-526C-4550-8612-C539C0AB1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90A18-FDC9-47E8-B9CB-3794B6007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8D05A-4A37-4422-93C9-FC0E39372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’t go into detail here – just get them to thi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uld talk about the first two though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F151-68BD-4987-8D2F-21DB3E531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A4BF-79F7-42D0-A9DE-7EC8408C19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CFB4-85C9-4E7F-9DCF-070E6147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79990-F369-4F20-AEF8-3CACAC29D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2F90-3A2B-4D86-880C-C4A044769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8ED3-7652-4182-9D3F-8C38C3A03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BDFF-94DD-4AEE-AEFA-4FAA93E5EB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stening, thinking, taking notes, asking yourself questions, anticipating what could come n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mmarising:  sometimes you can’t get everything word for word, so at some point you need to summarise what was s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have difficulty listening, notetaking and summarising – not good at multi tas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 you don’t take notes, you become inactive, disinterested and your mind starts to wa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1E4E-B6A8-40E1-B180-E3E1E76F8C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5DB0-8AAF-41E6-BB87-1186DE132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A063-389E-4BA6-86C4-2ECDB413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029F-3145-4407-A528-825D90A7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8C4-DF0E-475F-B00B-241C0D977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0967-9048-4C20-9441-A4EC14B7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A5BC-28BC-4C85-8776-267D0CEF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8550-01E9-4CA2-94E1-ABE88B1E0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2A0E-5184-441F-B27A-824FD185E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219F-FFF8-4FF0-B087-1A7B21E5F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9255-5311-4936-AEF2-CAD664F3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6722-2A64-4262-AABE-409FB508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D099-15A7-4F95-A2AF-555D7A87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5F13-5560-4CD3-9308-9977485AE9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sas.calpoly.edu/asc/ssl/notetaking.systems.html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s.calpoly.edu/asc/ssl/notetaking.system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quotedb.com/authors/confucius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2925360"/>
            <a:ext cx="820908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the most out of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3132000" y="4437000"/>
            <a:ext cx="2808360" cy="1600200"/>
            <a:chOff x="3132000" y="4437000"/>
            <a:chExt cx="2808360" cy="1600200"/>
          </a:xfrm>
        </p:grpSpPr>
        <p:pic>
          <p:nvPicPr>
            <p:cNvPr id="51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443700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Text Box 6"/>
            <p:cNvSpPr/>
            <p:nvPr/>
          </p:nvSpPr>
          <p:spPr>
            <a:xfrm>
              <a:off x="3924000" y="508464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 rot="16200000">
              <a:off x="5149080" y="515700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79280" y="549360"/>
            <a:ext cx="8750520" cy="48337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>
            <a:hlinkClick r:id="rId2"/>
          </p:cNvPr>
          <p:cNvSpPr/>
          <p:nvPr/>
        </p:nvSpPr>
        <p:spPr>
          <a:xfrm>
            <a:off x="1332000" y="602136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124000" y="1341360"/>
            <a:ext cx="5256360" cy="439272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2124000" y="494172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3635280" y="1844640"/>
            <a:ext cx="0" cy="3097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4284720" y="256536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e taking area during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8"/>
          <p:cNvSpPr/>
          <p:nvPr/>
        </p:nvSpPr>
        <p:spPr>
          <a:xfrm>
            <a:off x="2124000" y="1844640"/>
            <a:ext cx="5256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411280" y="141300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cturer/title/date/pag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2268360" y="1916280"/>
            <a:ext cx="15829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66ff"/>
                </a:solidFill>
                <a:latin typeface="Arial"/>
              </a:rPr>
              <a:t>Post lecture comme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ey words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info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mpt questions relating to lecture mat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2916360" y="501336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mmary of key points, follow up, unclear 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476360" y="40464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Cornell Note taking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>
            <a:hlinkClick r:id="rId1"/>
          </p:cNvPr>
          <p:cNvSpPr/>
          <p:nvPr/>
        </p:nvSpPr>
        <p:spPr>
          <a:xfrm>
            <a:off x="217440" y="6021360"/>
            <a:ext cx="867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ther systems: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ttp://www.sas.calpoly.edu/asc/ssl/notetaking.system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Wake up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Voice changes, the spea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lows the 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Leaves a g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Speaks lou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ood Liste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isten for signal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There are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three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reasons wh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be al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First...Second... Third....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m cl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nd most important,...."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"A major development...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in idea – mark it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4716360" y="2492280"/>
            <a:ext cx="4248360" cy="3600360"/>
            <a:chOff x="4716360" y="2492280"/>
            <a:chExt cx="4248360" cy="3600360"/>
          </a:xfrm>
        </p:grpSpPr>
        <p:sp>
          <p:nvSpPr>
            <p:cNvPr id="92" name="AutoShape 4"/>
            <p:cNvSpPr/>
            <p:nvPr/>
          </p:nvSpPr>
          <p:spPr>
            <a:xfrm>
              <a:off x="4716360" y="2492280"/>
              <a:ext cx="4248360" cy="3600360"/>
            </a:xfrm>
            <a:custGeom>
              <a:avLst/>
              <a:gdLst>
                <a:gd name="textAreaLeft" fmla="*/ 1312920 w 4248360"/>
                <a:gd name="textAreaRight" fmla="*/ 2935440 w 4248360"/>
                <a:gd name="textAreaTop" fmla="*/ 1374840 h 3600360"/>
                <a:gd name="textAreaBottom" fmla="*/ 2751120 h 3600360"/>
              </a:gdLst>
              <a:ahLst/>
              <a:rect l="textAreaLeft" t="textAreaTop" r="textAreaRight" b="textAreaBottom"/>
              <a:pathLst>
                <a:path w="2676" h="2268">
                  <a:moveTo>
                    <a:pt x="0" y="866"/>
                  </a:moveTo>
                  <a:lnTo>
                    <a:pt x="1022" y="866"/>
                  </a:lnTo>
                  <a:lnTo>
                    <a:pt x="1338" y="0"/>
                  </a:lnTo>
                  <a:lnTo>
                    <a:pt x="1654" y="866"/>
                  </a:lnTo>
                  <a:lnTo>
                    <a:pt x="2676" y="866"/>
                  </a:lnTo>
                  <a:lnTo>
                    <a:pt x="1849" y="1402"/>
                  </a:lnTo>
                  <a:lnTo>
                    <a:pt x="2165" y="2268"/>
                  </a:lnTo>
                  <a:lnTo>
                    <a:pt x="1338" y="1733"/>
                  </a:lnTo>
                  <a:lnTo>
                    <a:pt x="511" y="2268"/>
                  </a:lnTo>
                  <a:lnTo>
                    <a:pt x="827" y="1402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5"/>
            <p:cNvSpPr/>
            <p:nvPr/>
          </p:nvSpPr>
          <p:spPr>
            <a:xfrm>
              <a:off x="5940360" y="4147920"/>
              <a:ext cx="172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ee  hand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7"/>
          <p:cNvSpPr/>
          <p:nvPr/>
        </p:nvSpPr>
        <p:spPr>
          <a:xfrm>
            <a:off x="4500720" y="6237360"/>
            <a:ext cx="43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gnals are ignored by poor liste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Arial"/>
              </a:rPr>
              <a:t>Engage your brain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ritical listening skil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uring a lecture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y has it been inclu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How does it link to the previous info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Is it essential or an exam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are the key po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66ff"/>
                </a:solidFill>
                <a:latin typeface="Arial"/>
              </a:rPr>
              <a:t>What is the main point of the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where understanding becomes diffic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4284720" y="6093000"/>
            <a:ext cx="4464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hances LEARNING DURING a l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116000" y="2349360"/>
            <a:ext cx="6534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w listen and take note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3348000" y="3645000"/>
            <a:ext cx="3888000" cy="2448000"/>
          </a:xfrm>
          <a:custGeom>
            <a:avLst/>
            <a:gdLst>
              <a:gd name="textAreaLeft" fmla="*/ 1201320 w 3888000"/>
              <a:gd name="textAreaRight" fmla="*/ 2686680 w 3888000"/>
              <a:gd name="textAreaTop" fmla="*/ 934920 h 2448000"/>
              <a:gd name="textAreaBottom" fmla="*/ 1870200 h 2448000"/>
            </a:gdLst>
            <a:ahLst/>
            <a:rect l="textAreaLeft" t="textAreaTop" r="textAreaRight" b="textAreaBottom"/>
            <a:pathLst>
              <a:path w="3887787" h="2447925">
                <a:moveTo>
                  <a:pt x="4" y="935022"/>
                </a:moveTo>
                <a:lnTo>
                  <a:pt x="1485011" y="935028"/>
                </a:lnTo>
                <a:lnTo>
                  <a:pt x="1943894" y="0"/>
                </a:lnTo>
                <a:lnTo>
                  <a:pt x="2402776" y="935028"/>
                </a:lnTo>
                <a:lnTo>
                  <a:pt x="3887783" y="935022"/>
                </a:lnTo>
                <a:lnTo>
                  <a:pt x="2686382" y="1512893"/>
                </a:lnTo>
                <a:lnTo>
                  <a:pt x="3145287" y="2447917"/>
                </a:lnTo>
                <a:lnTo>
                  <a:pt x="1943894" y="1870035"/>
                </a:lnTo>
                <a:lnTo>
                  <a:pt x="742500" y="2447917"/>
                </a:lnTo>
                <a:lnTo>
                  <a:pt x="1201405" y="1512893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500720" y="4724280"/>
            <a:ext cx="165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 Activity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8497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>
            <a:off x="1116000" y="3141720"/>
            <a:ext cx="6534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You tell me.....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How can you get the best out of a lectur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ad your last set of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ormation given by t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Be active during the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signal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stening for key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nking critically about the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ff"/>
                </a:solidFill>
                <a:latin typeface="Arial"/>
              </a:rPr>
              <a:t>Reflect on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flect on notes, follow ups, summ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er portfol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 to se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you do in lectures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you intend to impro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y out note taking using a method and reflect how it went (good or b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how evidence of how you prefer to take notes – and w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ome thoughts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lect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nnoys you about your fellow students in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do anything in preparation for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during a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do you do post le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turbinegen"/>
          <p:cNvPicPr/>
          <p:nvPr/>
        </p:nvPicPr>
        <p:blipFill>
          <a:blip r:embed="rId1"/>
          <a:stretch/>
        </p:blipFill>
        <p:spPr>
          <a:xfrm>
            <a:off x="2143080" y="357120"/>
            <a:ext cx="4857840" cy="56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200px-E-66_Egeln_feb2005"/>
          <p:cNvPicPr/>
          <p:nvPr/>
        </p:nvPicPr>
        <p:blipFill>
          <a:blip r:embed="rId1"/>
          <a:stretch/>
        </p:blipFill>
        <p:spPr>
          <a:xfrm>
            <a:off x="971640" y="1989000"/>
            <a:ext cx="1904760" cy="2543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826920" y="472428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rizont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Fig. 1: A Darrieus wind turbine once used to generate electricity on the Magdalen Islands"/>
          <p:cNvPicPr/>
          <p:nvPr/>
        </p:nvPicPr>
        <p:blipFill>
          <a:blip r:embed="rId2"/>
          <a:stretch/>
        </p:blipFill>
        <p:spPr>
          <a:xfrm>
            <a:off x="5435640" y="2022480"/>
            <a:ext cx="1714320" cy="248616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9"/>
          <p:cNvSpPr/>
          <p:nvPr/>
        </p:nvSpPr>
        <p:spPr>
          <a:xfrm>
            <a:off x="529272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rtical axis wind turb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onfuciu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1341360"/>
            <a:ext cx="2792520" cy="3673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8"/>
          <p:cNvSpPr/>
          <p:nvPr/>
        </p:nvSpPr>
        <p:spPr>
          <a:xfrm>
            <a:off x="3492360" y="24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I hear and I forget. I see and I remember. I do and I understand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530064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uc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3708360" y="414972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In lectures </a:t>
            </a:r>
            <a:r>
              <a:rPr b="0" lang="en-GB" sz="2400" spc="-1" strike="noStrike" u="sng">
                <a:solidFill>
                  <a:srgbClr val="0066ff"/>
                </a:solidFill>
                <a:uFillTx/>
                <a:latin typeface="Arial"/>
              </a:rPr>
              <a:t>doing</a:t>
            </a:r>
            <a:r>
              <a:rPr b="0" lang="en-GB" sz="2400" spc="-1" strike="noStrike">
                <a:solidFill>
                  <a:srgbClr val="0066ff"/>
                </a:solidFill>
                <a:latin typeface="Arial"/>
              </a:rPr>
              <a:t> is:  thinking, summarising, note ta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do you expect to get out of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57200" y="1600200"/>
          <a:ext cx="8229600" cy="4206960"/>
        </p:xfrm>
        <a:graphic>
          <a:graphicData uri="http://schemas.openxmlformats.org/drawingml/2006/table">
            <a:tbl>
              <a:tblPr/>
              <a:tblGrid>
                <a:gridCol w="6202440"/>
                <a:gridCol w="20271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The lecturer should teach me all I need to know on that subjec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/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go to a lecture to get all the information I need for an assignmen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I shouldn’t have to take notes because the information is on the handout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don’t need to think in lectures, just listen carefull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eparing for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you…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Check the lecture topic before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Start to think about the top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Try to think what it could invol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Do a little reading arou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Arial"/>
              </a:rPr>
              <a:t>Use notes given by the tuto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ust turn u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do you do IN l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Arrive late  - of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sten with my head on the de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Send text mess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t to my 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Arial"/>
              </a:rPr>
              <a:t>Talk about last night during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What skills are involved when listening to a lectu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What do you think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68" name="Group 7"/>
          <p:cNvGrpSpPr/>
          <p:nvPr/>
        </p:nvGrpSpPr>
        <p:grpSpPr>
          <a:xfrm>
            <a:off x="4643280" y="4653000"/>
            <a:ext cx="3888000" cy="1582560"/>
            <a:chOff x="4643280" y="4653000"/>
            <a:chExt cx="3888000" cy="1582560"/>
          </a:xfrm>
        </p:grpSpPr>
        <p:sp>
          <p:nvSpPr>
            <p:cNvPr id="69" name="AutoShape 5"/>
            <p:cNvSpPr/>
            <p:nvPr/>
          </p:nvSpPr>
          <p:spPr>
            <a:xfrm>
              <a:off x="4643280" y="4653000"/>
              <a:ext cx="3888000" cy="1582560"/>
            </a:xfrm>
            <a:prstGeom prst="irregularSeal2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6"/>
            <p:cNvSpPr/>
            <p:nvPr/>
          </p:nvSpPr>
          <p:spPr>
            <a:xfrm>
              <a:off x="5867280" y="5300640"/>
              <a:ext cx="115272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ctivity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skills are involv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 list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te ta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mmarising (note tak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rganisational (on paper &amp; mentall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ulti-tas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Note t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WordArt 4"/>
          <p:cNvSpPr txBox="1"/>
          <p:nvPr/>
        </p:nvSpPr>
        <p:spPr>
          <a:xfrm>
            <a:off x="1692360" y="2997360"/>
            <a:ext cx="590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o you have a system?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6:59Z</dcterms:modified>
  <cp:revision>49</cp:revision>
  <dc:subject/>
  <dc:title>Getting started in HE</dc:title>
</cp:coreProperties>
</file>